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F5105-F4F2-4A86-8533-2C88F7340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5E846-832F-468A-9F4B-612E83BD1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737AA-4E1B-4FEB-8F13-20E1A7355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F99E0-3AF9-4043-9265-2FAE0C40D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CBE85-C87A-4EF3-A858-C884EAA02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25086-0B51-41A6-B215-8AED02B6F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89125-3420-4B58-A935-28E8CD77A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BE402-F10A-49EE-ABA7-34E20FA64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CE078-B304-4E1F-824D-838DF1384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D27B-BB65-4E69-A268-0DB3914D0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1FFF4-E5CD-414A-9DF2-B8859133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6B92C-A221-4E12-93EF-B5B74E9EB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165E-0AD9-4522-9B57-51F6755F8C3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20640"/>
            <a:ext cx="7772400" cy="3672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жељене реакције на храну посредоване антителима. Нежељене реакције на храну посредоване ћелијама имунског система. Анафилактоидна реакција. Метаболички поремећаји који узрокују нежељене реакције на храну. Идиосинкразија на храну. Утицај хранљивих састојака на апсорпцију лекова. Утицај хранљивих састојака на метаболизам лекова. Утицај лекова на апсорпцију састојака хране. Инкопатибилност лекова и хранљивих састојака. </a:t>
            </a:r>
            <a:endParaRPr b="0" lang="en-US" sz="2400" spc="-1" strike="noStrike">
              <a:solidFill>
                <a:srgbClr val="000000"/>
              </a:solidFill>
              <a:latin typeface="Calibri"/>
            </a:endParaRPr>
          </a:p>
        </p:txBody>
      </p:sp>
      <p:sp>
        <p:nvSpPr>
          <p:cNvPr id="42" name="Rectangle 2"/>
          <p:cNvSpPr/>
          <p:nvPr/>
        </p:nvSpPr>
        <p:spPr>
          <a:xfrm>
            <a:off x="1143000" y="5072040"/>
            <a:ext cx="7358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Броматологиј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тринаеста недеља наставе</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посредоване антителима</a:t>
            </a:r>
            <a:endParaRPr b="0" lang="en-US" sz="3600" spc="-1" strike="noStrike">
              <a:solidFill>
                <a:srgbClr val="000000"/>
              </a:solidFill>
              <a:latin typeface="Calibri"/>
            </a:endParaRPr>
          </a:p>
        </p:txBody>
      </p:sp>
      <p:sp>
        <p:nvSpPr>
          <p:cNvPr id="59" name=""/>
          <p:cNvSpPr txBox="1"/>
          <p:nvPr/>
        </p:nvSpPr>
        <p:spPr>
          <a:xfrm>
            <a:off x="457200" y="1989000"/>
            <a:ext cx="8229600" cy="4137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рални алергијски синдром (ОАС) се задржава на орофарингеалној регији, представља најчешћи и најблажи вид IgE антителима посредоване алергијске реакције, а најчешће настаје услед конзумације свежег воћ и поврћа.</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a:t>
            </a:r>
            <a:r>
              <a:rPr b="1" lang="en-US" sz="3600" spc="-1" strike="noStrike">
                <a:solidFill>
                  <a:srgbClr val="000000"/>
                </a:solidFill>
                <a:latin typeface="Times New Roman"/>
                <a:ea typeface="Times New Roman"/>
              </a:rPr>
              <a:t>посредоване ћелијама имуног система</a:t>
            </a:r>
            <a:endParaRPr b="0" lang="en-US" sz="3600" spc="-1" strike="noStrike">
              <a:solidFill>
                <a:srgbClr val="000000"/>
              </a:solidFill>
              <a:latin typeface="Calibri"/>
            </a:endParaRPr>
          </a:p>
        </p:txBody>
      </p:sp>
      <p:sp>
        <p:nvSpPr>
          <p:cNvPr id="61" name=""/>
          <p:cNvSpPr txBox="1"/>
          <p:nvPr/>
        </p:nvSpPr>
        <p:spPr>
          <a:xfrm>
            <a:off x="468360" y="1699920"/>
            <a:ext cx="8229600" cy="47098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ве реакције на храну су временски одложене и обухватају Т лимфоците који су сензибилисани на специфичну материју из хране која покреће реакциј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еакција најчешће исходује локалном ткивном запаљенском реакцијом а знаци алергијске реакције се јављају 6 до 24 сата након конзумирања сумњиве хране.</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Целијачна болест</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0000"/>
          </a:bodyPr>
          <a:p>
            <a:pPr marL="308520" indent="-3085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Целијачна болест је удружена са конзумирањем глиадина из пшенице и сродних проламинских протеина из других житарица (раж, јечам).</a:t>
            </a:r>
            <a:endParaRPr b="0" lang="en-US" sz="3200" spc="-1" strike="noStrike">
              <a:solidFill>
                <a:srgbClr val="000000"/>
              </a:solidFill>
              <a:latin typeface="Calibri"/>
            </a:endParaRPr>
          </a:p>
          <a:p>
            <a:pPr marL="308520" indent="-3085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оламинска фракција из пшенице је глутен, те се целијачна болест понекад назива и глутен сензитивна ентеропатија.</a:t>
            </a:r>
            <a:endParaRPr b="0" lang="en-US" sz="3200" spc="-1" strike="noStrike">
              <a:solidFill>
                <a:srgbClr val="000000"/>
              </a:solidFill>
              <a:latin typeface="Calibri"/>
            </a:endParaRPr>
          </a:p>
          <a:p>
            <a:pPr marL="308520" indent="-3085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штећење слузнице танког црева је патофизиолошка основа целијачне болести и узрок је малапсорпције.</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које </a:t>
            </a:r>
            <a:r>
              <a:rPr b="1" lang="en-US" sz="3600" spc="-1" strike="noStrike">
                <a:solidFill>
                  <a:srgbClr val="000000"/>
                </a:solidFill>
                <a:latin typeface="Times New Roman"/>
                <a:ea typeface="Times New Roman"/>
              </a:rPr>
              <a:t>нису посредоване имуним системо</a:t>
            </a:r>
            <a:r>
              <a:rPr b="0" lang="en-US" sz="3600" spc="-1" strike="noStrike">
                <a:solidFill>
                  <a:srgbClr val="000000"/>
                </a:solidFill>
                <a:latin typeface="Times New Roman"/>
                <a:ea typeface="Times New Roman"/>
              </a:rPr>
              <a:t>м</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3000"/>
          </a:bodyPr>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муним системом непосредоване нежељене реакције на храну или састојак хране називају се интолеранције на храну.</a:t>
            </a:r>
            <a:endParaRPr b="0" lang="en-US" sz="3200" spc="-1" strike="noStrike">
              <a:solidFill>
                <a:srgbClr val="000000"/>
              </a:solidFill>
              <a:latin typeface="Calibri"/>
            </a:endParaRPr>
          </a:p>
          <a:p>
            <a:pPr marL="284400" indent="-284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ежељене реакције на храну које нису посредоване имуним системом могу бити</a:t>
            </a:r>
            <a:r>
              <a:rPr b="0" lang="en-US" sz="3200" spc="-1" strike="noStrike">
                <a:solidFill>
                  <a:srgbClr val="000000"/>
                </a:solidFill>
                <a:latin typeface="Calibri"/>
              </a:rPr>
              <a:t>:</a:t>
            </a:r>
            <a:endParaRPr b="0" lang="en-US" sz="32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нафилактоидна реакциј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етаболички поремећаји који узрокују нежељену реакцију на храну(интолеранција на лактозу)</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диосинкразија на храну(сулфитима узрокована астм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84400" indent="-284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Анафилактоидна реакција</a:t>
            </a:r>
            <a:br>
              <a:rPr sz="3600"/>
            </a:b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Р представља ослобађање медијатора АР из мастоцита и базофилних ћелија без посредовања IgE антитела; чешће на лекове него на храну .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Метаболички поремећаји</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1000"/>
          </a:bodyPr>
          <a:p>
            <a:pPr marL="312120" indent="-312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етаболички поремећаји који узрокују нежељене реакције на храну.</a:t>
            </a:r>
            <a:endParaRPr b="0" lang="en-US" sz="3200" spc="-1" strike="noStrike">
              <a:solidFill>
                <a:srgbClr val="000000"/>
              </a:solidFill>
              <a:latin typeface="Calibri"/>
            </a:endParaRPr>
          </a:p>
          <a:p>
            <a:pPr marL="312120" indent="-312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П су последица генетички условљених метаболичких дефицита и представља недостатак лактазе.</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Фенилкетонурија би се могла разматрати као генетички условљен метаболички дефицит.</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Идиосинкразија на храну</a:t>
            </a:r>
            <a:br>
              <a:rPr sz="3600"/>
            </a:b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ежељена реакција на храну или састојке хране чији патофизиолошки механизам није познат.</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улфити, Na глутамат су адитиви који могу бити узрок идиосинкразије на храну.</a:t>
            </a: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Интеракције састојака намирница и лекова</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нтеракције састојака намирница и лекова обухвата сложене механизме. Интеракције могу бити резултат физичког, хемијског, физиолошког, патофизиолошког односа између једног или више лекова и хранљивих састојака присутних у намирницама.</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ови и хранљиви састојци намирница имају неколико заједничких карактеристика као што су најчешће орално узимање, пролаз кроз дигестивни тракт, слично место апсорпције у танком цреву, способност да доводе до промена у физиолошким процесима и представљају потенцијални ризик за оштећење здравља ако се користе у непримереним количинама.</a:t>
            </a: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а клиничког аспекта, интеракција је значајна ако доводи до промена у терапијском одговору на примењени лек/лекове; када узрокује акутно или хронично тровање лековима; или доводи до поремећаја нутритивног статус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a:t>
            </a:r>
            <a:endParaRPr b="0" lang="en-US" sz="3600" spc="-1" strike="noStrike">
              <a:solidFill>
                <a:srgbClr val="000000"/>
              </a:solidFill>
              <a:latin typeface="Calibri"/>
            </a:endParaRPr>
          </a:p>
        </p:txBody>
      </p:sp>
      <p:sp>
        <p:nvSpPr>
          <p:cNvPr id="44" name=""/>
          <p:cNvSpPr txBox="1"/>
          <p:nvPr/>
        </p:nvSpPr>
        <p:spPr>
          <a:xfrm>
            <a:off x="428760" y="1357200"/>
            <a:ext cx="8229600" cy="4525920"/>
          </a:xfrm>
          <a:prstGeom prst="rect">
            <a:avLst/>
          </a:prstGeom>
          <a:noFill/>
          <a:ln w="0">
            <a:noFill/>
          </a:ln>
        </p:spPr>
        <p:txBody>
          <a:bodyPr anchor="t">
            <a:normAutofit fontScale="91000"/>
          </a:bodyPr>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дређена храна или специфични састојци хране могу у малом проценту опште популације изазвати нежељене здравствене реакције. </a:t>
            </a: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Алергије на храну и интолеренције на храну могу се заједнички дефинисати као појединачна (индивидуална) нежељена реакција на храну и</a:t>
            </a:r>
            <a:r>
              <a:rPr b="0" lang="sr-RS" sz="2400" spc="-1" strike="noStrike">
                <a:solidFill>
                  <a:srgbClr val="000000"/>
                </a:solidFill>
                <a:latin typeface="Times New Roman"/>
                <a:ea typeface="Times New Roman"/>
              </a:rPr>
              <a:t>л</a:t>
            </a:r>
            <a:r>
              <a:rPr b="0" lang="en-US" sz="2400" spc="-1" strike="noStrike">
                <a:solidFill>
                  <a:srgbClr val="000000"/>
                </a:solidFill>
                <a:latin typeface="Times New Roman"/>
                <a:ea typeface="Times New Roman"/>
              </a:rPr>
              <a:t>и специфичне састојке хране, јер наведене болести погађају само поједине особе у општој популацији. </a:t>
            </a: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жељене реакције на храну могу бити имуним системом посредоване реакције на храну или састојак хране и реакције на храну иии састојак хране које нису посредоване имуним системом. </a:t>
            </a: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обална учесталост нежељених реакција на храну је 2-4%.</a:t>
            </a: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57120" y="500040"/>
            <a:ext cx="8229600" cy="4525920"/>
          </a:xfrm>
          <a:prstGeom prst="rect">
            <a:avLst/>
          </a:prstGeom>
          <a:noFill/>
          <a:ln w="0">
            <a:noFill/>
          </a:ln>
        </p:spPr>
        <p:txBody>
          <a:bodyPr anchor="t">
            <a:normAutofit fontScale="84000"/>
          </a:bodyPr>
          <a:p>
            <a:pPr marL="288000" indent="-2880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рална примена лека је најчешћи и најбезопаснији пут уношењаа лека.</a:t>
            </a:r>
            <a:endParaRPr b="0" lang="en-US" sz="3200" spc="-1" strike="noStrike">
              <a:solidFill>
                <a:srgbClr val="000000"/>
              </a:solidFill>
              <a:latin typeface="Calibri"/>
            </a:endParaRPr>
          </a:p>
          <a:p>
            <a:pPr marL="288000" indent="-2880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могућава добру подношљивост и могућност самолечења.</a:t>
            </a:r>
            <a:endParaRPr b="0" lang="en-US" sz="3200" spc="-1" strike="noStrike">
              <a:solidFill>
                <a:srgbClr val="000000"/>
              </a:solidFill>
              <a:latin typeface="Calibri"/>
            </a:endParaRPr>
          </a:p>
          <a:p>
            <a:pPr marL="288000" indent="-2880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јвећи број лекова унет оралним путем се добро апсорбује, најчешће преко слузнице танког црева.</a:t>
            </a:r>
            <a:endParaRPr b="0" lang="en-US" sz="3200" spc="-1" strike="noStrike">
              <a:solidFill>
                <a:srgbClr val="000000"/>
              </a:solidFill>
              <a:latin typeface="Calibri"/>
            </a:endParaRPr>
          </a:p>
          <a:p>
            <a:pPr marL="288000" indent="-2880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кон уноса лека, покреће се низ физиолошких, биохемијских механизама, који доприносе ослобађању лековите супстанце и транспорта путем крви до места дејства.</a:t>
            </a:r>
            <a:endParaRPr b="0" lang="en-US" sz="3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ношење намирница утиче на биорасположивост лека. </a:t>
            </a:r>
            <a:endParaRPr b="0" lang="en-US" sz="3200" spc="-1" strike="noStrike">
              <a:solidFill>
                <a:srgbClr val="000000"/>
              </a:solidFill>
              <a:latin typeface="Calibri"/>
            </a:endParaRPr>
          </a:p>
          <a:p>
            <a:pPr marL="329040" indent="-3290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псорпција лекова који се у значајној мери апсорбују у желуцу , много је бржа и боља из празног стомака. </a:t>
            </a:r>
            <a:endParaRPr b="0" lang="en-US" sz="3200" spc="-1" strike="noStrike">
              <a:solidFill>
                <a:srgbClr val="000000"/>
              </a:solidFill>
              <a:latin typeface="Calibri"/>
            </a:endParaRPr>
          </a:p>
          <a:p>
            <a:pPr marL="329040" indent="-3290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еђутим због опасности од оштећења слузокоже, не препоручује се узимање одређених лекова наштину, већ после оброка. </a:t>
            </a: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Утицај хранљивих састојака на апсорпцију лекова</a:t>
            </a:r>
            <a:endParaRPr b="0" lang="en-US" sz="3600" spc="-1" strike="noStrike">
              <a:solidFill>
                <a:srgbClr val="000000"/>
              </a:solidFill>
              <a:latin typeface="Calibri"/>
            </a:endParaRPr>
          </a:p>
        </p:txBody>
      </p:sp>
      <p:sp>
        <p:nvSpPr>
          <p:cNvPr id="82" name=""/>
          <p:cNvSpPr txBox="1"/>
          <p:nvPr/>
        </p:nvSpPr>
        <p:spPr>
          <a:xfrm>
            <a:off x="457200" y="1599840"/>
            <a:ext cx="8229600" cy="4924440"/>
          </a:xfrm>
          <a:prstGeom prst="rect">
            <a:avLst/>
          </a:prstGeom>
          <a:noFill/>
          <a:ln w="0">
            <a:noFill/>
          </a:ln>
        </p:spPr>
        <p:txBody>
          <a:bodyPr anchor="t">
            <a:normAutofit fontScale="97000"/>
          </a:bodyPr>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Боља апсорпција из празног желуца: ампицилин, ципрофлоксацин, доксициклин, изониазид, каптоприл, леводопа, метотрексат, рифампицин, теофилин, триметоприм.</a:t>
            </a:r>
            <a:endParaRPr b="0" lang="en-US" sz="3200" spc="-1" strike="noStrike">
              <a:solidFill>
                <a:srgbClr val="000000"/>
              </a:solidFill>
              <a:latin typeface="Calibri"/>
            </a:endParaRPr>
          </a:p>
          <a:p>
            <a:pPr marL="332640" indent="-3326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Боља апсорпција из пуног желуца: амиодарон, цефуросим, еритромицин, гемифиброзил, гризеофлувин, кетоконазол, ловастатин, нифедипин, спиронолактон, верапамил.</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Утицај хранљивих састојака на метаболизам лекова</a:t>
            </a:r>
            <a:endParaRPr b="0" lang="en-US" sz="36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ови апсорбовани у танком цреву, портном циркулацијом се транпортују до јетре, где се поједини лекови брзо разграђују, што се назива ефекат првог пролаз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нос намирница са високим садржајем протеина може да убрза хепатички метаболизам лекова (</a:t>
            </a:r>
            <a:r>
              <a:rPr b="1" lang="en-US" sz="3200" spc="-1" strike="noStrike">
                <a:solidFill>
                  <a:srgbClr val="000000"/>
                </a:solidFill>
                <a:latin typeface="Times New Roman"/>
                <a:ea typeface="Times New Roman"/>
              </a:rPr>
              <a:t>протеински ефекат</a:t>
            </a:r>
            <a:r>
              <a:rPr b="0" lang="en-US" sz="3200" spc="-1" strike="noStrike">
                <a:solidFill>
                  <a:srgbClr val="000000"/>
                </a:solidFill>
                <a:latin typeface="Times New Roman"/>
                <a:ea typeface="Times New Roman"/>
              </a:rPr>
              <a:t>), док се супротан ефекат јавља када у исхрани преовлађују намирнице богате мастима и угљеним хидрати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500040"/>
            <a:ext cx="8229600" cy="56260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писан протеински ефекат у метаболизму лекова може се објаснити чињеницом да су ензими протеинске структуре и да је за оптималну активност ензима потребан и оптимални унос протеина. Довољан унос протеина је потребан за оптималну активност ензимског система цитохром P450, који је задужен за оксидацију витамина, масних жучних киселина, већине лекова који доспевају у организам.</a:t>
            </a:r>
            <a:endParaRPr b="0" lang="en-US" sz="3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Утицај лекова на апсорпцију састојака хране</a:t>
            </a:r>
            <a:endParaRPr b="0" lang="en-US" sz="3600" spc="-1" strike="noStrike">
              <a:solidFill>
                <a:srgbClr val="000000"/>
              </a:solidFill>
              <a:latin typeface="Calibri"/>
            </a:endParaRPr>
          </a:p>
        </p:txBody>
      </p:sp>
      <p:sp>
        <p:nvSpPr>
          <p:cNvPr id="88" name=""/>
          <p:cNvSpPr txBox="1"/>
          <p:nvPr/>
        </p:nvSpPr>
        <p:spPr>
          <a:xfrm>
            <a:off x="457200" y="1599840"/>
            <a:ext cx="8229600" cy="4924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оједини лекови могу изазвати поремећај апсорције састојака хране, који према узроку могу бити примарни и секундарни поремећаји апсорпције. </a:t>
            </a: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Примарни поремећаји апсорпције</a:t>
            </a:r>
            <a:endParaRPr b="0" lang="en-US" sz="36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имарни поремећаји апсорпције – последица директног дејства лека на процесе дигестије у цреву или цревној слузокожи.</a:t>
            </a:r>
            <a:endParaRPr b="0" lang="en-US" sz="3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Секундарни поремећаји апсорпције</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екундарни поремећаји апсорпције настају када лек утиче на апсорпцију, расподелу или метаболизам једног или више састојака намирниц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нтиепилептици убрзавају метоболизам витамина D, што доводи до поремећаја у апсорпцији и могућег недостатка калцијума.</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Дуготрајна примена диуретика може довести до губитка минералних материја (калцијум, магнезијум, цинк, калију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Нежељене реакције на храну </a:t>
            </a:r>
            <a:r>
              <a:rPr b="1" lang="en-US" sz="3600" spc="-1" strike="noStrike" u="sng">
                <a:solidFill>
                  <a:srgbClr val="000000"/>
                </a:solidFill>
                <a:uFillTx/>
                <a:latin typeface="Times New Roman"/>
                <a:ea typeface="Times New Roman"/>
              </a:rPr>
              <a:t>посредоване имуним системом</a:t>
            </a:r>
            <a:endParaRPr b="0" lang="en-US" sz="36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Алергије на храну могу бит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Антителима посредоване (</a:t>
            </a:r>
            <a:r>
              <a:rPr b="0" lang="sr-Latn-RS" sz="3200" spc="-1" strike="noStrike">
                <a:solidFill>
                  <a:srgbClr val="000000"/>
                </a:solidFill>
                <a:latin typeface="Times New Roman"/>
                <a:ea typeface="Times New Roman"/>
              </a:rPr>
              <a:t>IgE-AT</a:t>
            </a:r>
            <a:r>
              <a:rPr b="0" lang="sr-RS" sz="3200" spc="-1" strike="noStrike">
                <a:solidFill>
                  <a:srgbClr val="000000"/>
                </a:solidFill>
                <a:latin typeface="Times New Roman"/>
                <a:ea typeface="Times New Roman"/>
              </a:rPr>
              <a:t>)</a:t>
            </a:r>
            <a:r>
              <a:rPr b="0" lang="sr-Latn-RS" sz="3200" spc="-1" strike="noStrike">
                <a:solidFill>
                  <a:srgbClr val="000000"/>
                </a:solidFill>
                <a:latin typeface="Times New Roman"/>
                <a:ea typeface="Times New Roman"/>
              </a:rPr>
              <a:t> – </a:t>
            </a:r>
            <a:r>
              <a:rPr b="0" lang="sr-RS" sz="3200" spc="-1" strike="noStrike">
                <a:solidFill>
                  <a:srgbClr val="000000"/>
                </a:solidFill>
                <a:latin typeface="Times New Roman"/>
                <a:ea typeface="Times New Roman"/>
              </a:rPr>
              <a:t>настају непосредно после узимања хране (кравље млеко, кикирики)</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Ћелијама имуног система посредоване – временски су одложене (целијачна болест)</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                  </a:t>
            </a:r>
            <a:r>
              <a:rPr b="0" lang="sr-RS" sz="3600" spc="-1" strike="noStrike">
                <a:solidFill>
                  <a:srgbClr val="000000"/>
                </a:solidFill>
                <a:latin typeface="Times New Roman"/>
                <a:ea typeface="Times New Roman"/>
              </a:rPr>
              <a:t>ПРАКТИЧНИ ДЕО</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85840" y="1571400"/>
            <a:ext cx="8400960" cy="4554360"/>
          </a:xfrm>
          <a:prstGeom prst="rect">
            <a:avLst/>
          </a:prstGeom>
          <a:noFill/>
          <a:ln w="0">
            <a:noFill/>
          </a:ln>
        </p:spPr>
        <p:txBody>
          <a:bodyPr anchor="t">
            <a:normAutofit fontScale="87000"/>
          </a:bodyPr>
          <a:p>
            <a:pPr marL="298440" indent="-2984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ежељене реакције на лекове могу бити појачане уношењем специфичних намирница или алкохолних пића. </a:t>
            </a:r>
            <a:endParaRPr b="0" lang="en-US" sz="3200" spc="-1" strike="noStrike">
              <a:solidFill>
                <a:srgbClr val="000000"/>
              </a:solidFill>
              <a:latin typeface="Calibri"/>
            </a:endParaRPr>
          </a:p>
          <a:p>
            <a:pPr marL="298440" indent="-2984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 интензитет и изражајност могу утицати многи фактори (узраст, стање ухрањености, присуство болести, узимање других лекова и додатака исхрани). </a:t>
            </a:r>
            <a:endParaRPr b="0" lang="en-US" sz="3200" spc="-1" strike="noStrike">
              <a:solidFill>
                <a:srgbClr val="000000"/>
              </a:solidFill>
              <a:latin typeface="Calibri"/>
            </a:endParaRPr>
          </a:p>
          <a:p>
            <a:pPr marL="298440" indent="-29844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јважније системске реакције због инкопатибилности између лекова и хране је приказан у наредној табели.</a:t>
            </a:r>
            <a:endParaRPr b="0" lang="en-US" sz="3200" spc="-1" strike="noStrike">
              <a:solidFill>
                <a:srgbClr val="000000"/>
              </a:solidFill>
              <a:latin typeface="Calibri"/>
            </a:endParaRPr>
          </a:p>
        </p:txBody>
      </p:sp>
      <p:sp>
        <p:nvSpPr>
          <p:cNvPr id="97" name="Rectangle 3"/>
          <p:cNvSpPr/>
          <p:nvPr/>
        </p:nvSpPr>
        <p:spPr>
          <a:xfrm>
            <a:off x="642960" y="285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Инкопатибилност лекова и хранљивих састојака</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Инкопатибилност лекова и хранљивих састојака</a:t>
            </a:r>
            <a:endParaRPr b="0" lang="en-US" sz="3000" spc="-1" strike="noStrike">
              <a:solidFill>
                <a:srgbClr val="000000"/>
              </a:solidFill>
              <a:latin typeface="Calibri"/>
            </a:endParaRPr>
          </a:p>
        </p:txBody>
      </p:sp>
      <p:graphicFrame>
        <p:nvGraphicFramePr>
          <p:cNvPr id="99" name=""/>
          <p:cNvGraphicFramePr/>
          <p:nvPr/>
        </p:nvGraphicFramePr>
        <p:xfrm>
          <a:off x="468360" y="1628640"/>
          <a:ext cx="8280360" cy="4297320"/>
        </p:xfrm>
        <a:graphic>
          <a:graphicData uri="http://schemas.openxmlformats.org/drawingml/2006/table">
            <a:tbl>
              <a:tblPr/>
              <a:tblGrid>
                <a:gridCol w="2070000"/>
                <a:gridCol w="2070000"/>
                <a:gridCol w="2070360"/>
                <a:gridCol w="207000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libri"/>
                        </a:rPr>
                        <a:t>Лек/група леко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libri"/>
                        </a:rPr>
                        <a:t>Намирнице индуктори реакциј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libri"/>
                        </a:rPr>
                        <a:t>Токсични хранљиви састојци</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Calibri"/>
                        </a:rPr>
                        <a:t>Симптоми</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Calibri"/>
                        </a:rPr>
                        <a:t>iMA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Зрели сир, боб, кисели краставац, харинга, пилећа јетра, цвено вино, пив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Тирамин, допами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Хипертензија, главобоља, мука, повраћањ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Дисулфира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Алкохолна пића и све намирнице које садрже алкохол</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Етанол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Црвенило лица, гађење, повраћање, болови у грудима, страх, халуцинациј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Орални антидијабетици</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Алкохолна пића и све намирнице које садрже алкохо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Етанол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Црвенило лица, јака главобоља, отежано дисањ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Изониазид</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Туњевина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Хистамин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Calibri"/>
                        </a:rPr>
                        <a:t>Црвенило лица, свраб у очима, лицу и длановима, јака главобољ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Тираминска реакција</a:t>
            </a:r>
            <a:endParaRPr b="0" lang="en-US" sz="36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Настаје као </a:t>
            </a:r>
            <a:r>
              <a:rPr b="1" lang="sr-RS" sz="3200" spc="-1" strike="noStrike">
                <a:solidFill>
                  <a:srgbClr val="000000"/>
                </a:solidFill>
                <a:latin typeface="Times New Roman"/>
                <a:ea typeface="Times New Roman"/>
              </a:rPr>
              <a:t>последица пораста нивоа катехоламина и серотонина </a:t>
            </a:r>
            <a:r>
              <a:rPr b="0" lang="sr-RS" sz="3200" spc="-1" strike="noStrike">
                <a:solidFill>
                  <a:srgbClr val="000000"/>
                </a:solidFill>
                <a:latin typeface="Times New Roman"/>
                <a:ea typeface="Times New Roman"/>
              </a:rPr>
              <a:t>у структурама централног нервног система и појачања кардиоваскуларних ефеката простих фенилетиламина као што је </a:t>
            </a:r>
            <a:r>
              <a:rPr b="1" lang="sr-RS" sz="3200" spc="-1" strike="noStrike">
                <a:solidFill>
                  <a:srgbClr val="000000"/>
                </a:solidFill>
                <a:latin typeface="Times New Roman"/>
                <a:ea typeface="Times New Roman"/>
              </a:rPr>
              <a:t>тирамин</a:t>
            </a:r>
            <a:r>
              <a:rPr b="0" lang="sr-RS" sz="3200" spc="-1" strike="noStrike">
                <a:solidFill>
                  <a:srgbClr val="000000"/>
                </a:solidFill>
                <a:latin typeface="Times New Roman"/>
                <a:ea typeface="Times New Roman"/>
              </a:rPr>
              <a:t>, после примене антидепресивних лекова из групе инхибитора моно амино оксидазе. Јачина реакције зависи од дозе лека и садржаја тирамина у намирницама. </a:t>
            </a: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999720"/>
            <a:ext cx="8229600" cy="51260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Јавља се обично од 30-60 минута, након уношења намирница богатих овим биогеним амином (зрели сир, усољена риба, кисели краставци, неке врсте воћа, кафа).</a:t>
            </a:r>
            <a:endParaRPr b="0" lang="en-US" sz="32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 </a:t>
            </a:r>
            <a:endParaRPr b="0" lang="en-US" sz="4400" spc="-1" strike="noStrike">
              <a:solidFill>
                <a:srgbClr val="000000"/>
              </a:solidFill>
              <a:latin typeface="Calibri"/>
            </a:endParaRPr>
          </a:p>
        </p:txBody>
      </p:sp>
      <p:sp>
        <p:nvSpPr>
          <p:cNvPr id="104" name=""/>
          <p:cNvSpPr txBox="1"/>
          <p:nvPr/>
        </p:nvSpPr>
        <p:spPr>
          <a:xfrm>
            <a:off x="457200" y="500040"/>
            <a:ext cx="8229600" cy="5626080"/>
          </a:xfrm>
          <a:prstGeom prst="rect">
            <a:avLst/>
          </a:prstGeom>
          <a:noFill/>
          <a:ln w="0">
            <a:noFill/>
          </a:ln>
        </p:spPr>
        <p:txBody>
          <a:bodyPr anchor="t">
            <a:normAutofit fontScale="95000"/>
          </a:bodyPr>
          <a:p>
            <a:pPr marL="325800" indent="-3258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Инкопатибилност између лекова и алкохолних пића користи се у сврху лечења. Ово се односи на примену дисулфирама као адјуванса у терапији хроничног алкохолизма уз примену психотерапије.</a:t>
            </a:r>
            <a:endParaRPr b="0" lang="en-US" sz="2800" spc="-1" strike="noStrike">
              <a:solidFill>
                <a:srgbClr val="000000"/>
              </a:solidFill>
              <a:latin typeface="Calibri"/>
            </a:endParaRPr>
          </a:p>
          <a:p>
            <a:pPr marL="325800" indent="-3258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Дисулфирам као инхибитор алкохол дехидрогеназе у јетри зауставља оксидацију етанола на нивоу ацеталдехида. У одсуству алкохола дисулфирам не проузрокује значајне ефекте, док у присуству алкохола доводи до нагомилавања ацеталдехида и пирувата. Велике концентрације алдехида су токсичне, посебно по неуровегетативни систем, а последично настаје </a:t>
            </a:r>
            <a:r>
              <a:rPr b="1" lang="sr-RS" sz="2800" spc="-1" strike="noStrike">
                <a:solidFill>
                  <a:srgbClr val="000000"/>
                </a:solidFill>
                <a:latin typeface="Times New Roman"/>
                <a:ea typeface="Times New Roman"/>
              </a:rPr>
              <a:t>дисулфирамска реакција</a:t>
            </a:r>
            <a:r>
              <a:rPr b="0" lang="sr-R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Карактеристични знаци дисулфирамске рекације </a:t>
            </a:r>
            <a:r>
              <a:rPr b="0" lang="sr-RS" sz="3200" spc="-1" strike="noStrike">
                <a:solidFill>
                  <a:srgbClr val="000000"/>
                </a:solidFill>
                <a:latin typeface="Times New Roman"/>
                <a:ea typeface="Times New Roman"/>
              </a:rPr>
              <a:t>су црвенило лица, осећај топлоте по телу, главобоља праћена гађењем и повраћањем, боловима у абдомену и грудима, страхом праћеним халуцинацијама.</a:t>
            </a:r>
            <a:endParaRPr b="0" lang="en-US" sz="3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зот је есенцијални елемент за исхрану и функционисање биљака и из тих разлога биљке имају строгу метаболичку контролу концентрације нитрата и других азотних једињења.</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итрати се углавном налазе у ћелијским вакуолама.</a:t>
            </a:r>
            <a:endParaRPr b="0" lang="en-US" sz="3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Фактори који утичу на ниво нитрата у биљкама и храни</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Земљиште – нитрати из земљишта прелазе у површинске делове корена путем конвекције,</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Интензитет светлости – кључни фактор који утиче на концентрацију нитрата у лиснатом поврћу,</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Азотна ђубрива – азот у ђубривима може бити у облику нитрата, амонијака или урее,</a:t>
            </a:r>
            <a:endParaRPr b="0" lang="en-US" sz="30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12" name=""/>
          <p:cNvSpPr txBox="1"/>
          <p:nvPr/>
        </p:nvSpPr>
        <p:spPr>
          <a:xfrm>
            <a:off x="457200" y="159984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Добра пољопривредна пракса – абиотски фактори, подрезивање, избор сорте, период између жетве и продаје,</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кладиштење – чување у врижидеру одржава ниске концентрације нитрата,</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ерада – Нитрати су хидросолубилни и прањем лиснатог поврћа може се умањити њихов ниво; љуштење и кување такође смањују нивое нитрата и нитрита,</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Нежељене реакције на храну </a:t>
            </a:r>
            <a:r>
              <a:rPr b="1" lang="en-US" sz="3600" spc="-1" strike="noStrike" u="sng">
                <a:solidFill>
                  <a:srgbClr val="000000"/>
                </a:solidFill>
                <a:uFillTx/>
                <a:latin typeface="Times New Roman"/>
                <a:ea typeface="Times New Roman"/>
              </a:rPr>
              <a:t>посредоване антителима</a:t>
            </a:r>
            <a:endParaRPr b="0" lang="en-US" sz="3600" spc="-1" strike="noStrike">
              <a:solidFill>
                <a:srgbClr val="000000"/>
              </a:solidFill>
              <a:latin typeface="Calibri"/>
            </a:endParaRPr>
          </a:p>
        </p:txBody>
      </p:sp>
      <p:sp>
        <p:nvSpPr>
          <p:cNvPr id="48" name=""/>
          <p:cNvSpPr txBox="1"/>
          <p:nvPr/>
        </p:nvSpPr>
        <p:spPr>
          <a:xfrm>
            <a:off x="468360" y="177336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епосредна алергијска реакција на храну посредована алерген-специфичним IgE антителима створеним од стране В ћелија као одговор на имунолошки подстицај односно изложеност имуног система специфичном алерген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ехрамбени алергени су најчешће протеини природно присутни у храни.</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Идентификација и карактеризација опасност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зимајући у обзир могућност међусобне редукционо-оксидационе конверзије нитрата у нитрите и обрнуто, потребан је интегрисан приступ у процени изложености и ефеката ових јона.</a:t>
            </a:r>
            <a:endParaRPr b="0" lang="en-US" sz="32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итрати и нитрити</a:t>
            </a:r>
            <a:endParaRPr b="0" lang="en-US" sz="3600" spc="-1" strike="noStrike">
              <a:solidFill>
                <a:srgbClr val="000000"/>
              </a:solidFill>
              <a:latin typeface="Calibri"/>
            </a:endParaRPr>
          </a:p>
        </p:txBody>
      </p:sp>
      <p:sp>
        <p:nvSpPr>
          <p:cNvPr id="116" name=""/>
          <p:cNvSpPr txBox="1"/>
          <p:nvPr/>
        </p:nvSpPr>
        <p:spPr>
          <a:xfrm>
            <a:off x="457200" y="1599840"/>
            <a:ext cx="8229600" cy="4708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кутна 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убхронична 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Метхемоглобинем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Гено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Хронична токсичност/Канцероге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Ендокрина токсично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Токсичност нитрозамина.</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Times New Roman"/>
              </a:rPr>
              <a:t>Нежељене реакције на храну посредоване антителима</a:t>
            </a:r>
            <a:endParaRPr b="0" lang="en-US" sz="3600" spc="-1" strike="noStrike">
              <a:solidFill>
                <a:srgbClr val="000000"/>
              </a:solidFill>
              <a:latin typeface="Calibri"/>
            </a:endParaRPr>
          </a:p>
        </p:txBody>
      </p:sp>
      <p:sp>
        <p:nvSpPr>
          <p:cNvPr id="50" name=""/>
          <p:cNvSpPr txBox="1"/>
          <p:nvPr/>
        </p:nvSpPr>
        <p:spPr>
          <a:xfrm>
            <a:off x="468360" y="1700280"/>
            <a:ext cx="8229600" cy="48528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муни систем препознаје одређене протеине хране као штетне, започиње стварање IgE антитела у циљу неутрализације протеина (алергена). IgE антитела након стварања циркулишу и везују се за мастоците и базофилне ћелије (највише их има у крви, носној слузници, грлу, плућима, кожи, гастроинтестиналном тракту) и то чини фазу сензибилизације у алергијском одговору која је најчешће без симптома.</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и поновљеној изложености, алерген се веже за IgE антитела која се налазе на површини мастоцита и базофилних ћелија што је покретач дегранулације мастоцита и базофилних ћелија и отпуштања врло моћних физиолошки активних посредника алергијске реакције као што је </a:t>
            </a:r>
            <a:r>
              <a:rPr b="1" lang="en-US" sz="3200" spc="-1" strike="noStrike">
                <a:solidFill>
                  <a:srgbClr val="000000"/>
                </a:solidFill>
                <a:latin typeface="Times New Roman"/>
                <a:ea typeface="Times New Roman"/>
              </a:rPr>
              <a:t>хистамин. </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посредоване антителима</a:t>
            </a:r>
            <a:endParaRPr b="0" lang="en-US" sz="3600" spc="-1" strike="noStrike">
              <a:solidFill>
                <a:srgbClr val="000000"/>
              </a:solidFill>
              <a:latin typeface="Calibri"/>
            </a:endParaRPr>
          </a:p>
        </p:txBody>
      </p:sp>
      <p:sp>
        <p:nvSpPr>
          <p:cNvPr id="53" name=""/>
          <p:cNvSpPr txBox="1"/>
          <p:nvPr/>
        </p:nvSpPr>
        <p:spPr>
          <a:xfrm>
            <a:off x="468360" y="177336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стали важни медијатори су леукотриени и простагландин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Како мастоцита и базофилних ћелија има највише у крви, носној слузници, плућима, кожи и ГИТ-у; знаци алергијске реакције највише су изражени од стране дисајних органа, променама на кожи и од стране ГИТ-а.</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Нежељене реакције на храну посредоване антителима</a:t>
            </a:r>
            <a:endParaRPr b="0" lang="en-US" sz="3600" spc="-1" strike="noStrike">
              <a:solidFill>
                <a:srgbClr val="000000"/>
              </a:solidFill>
              <a:latin typeface="Calibri"/>
            </a:endParaRPr>
          </a:p>
        </p:txBody>
      </p:sp>
      <p:sp>
        <p:nvSpPr>
          <p:cNvPr id="55" name=""/>
          <p:cNvSpPr txBox="1"/>
          <p:nvPr/>
        </p:nvSpPr>
        <p:spPr>
          <a:xfrm>
            <a:off x="468360" y="1773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лергени из хране су протеини природно садржани у хран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лергени могу бити</a:t>
            </a:r>
            <a:r>
              <a:rPr b="0" lang="en-US" sz="3200" spc="-1" strike="noStrike" u="sng">
                <a:solidFill>
                  <a:srgbClr val="000000"/>
                </a:solidFill>
                <a:uFillTx/>
                <a:latin typeface="Times New Roman"/>
                <a:ea typeface="Times New Roman"/>
              </a:rPr>
              <a:t>: главни (</a:t>
            </a:r>
            <a:r>
              <a:rPr b="0" i="1" lang="en-US" sz="3200" spc="-1" strike="noStrike" u="sng">
                <a:solidFill>
                  <a:srgbClr val="000000"/>
                </a:solidFill>
                <a:uFillTx/>
                <a:latin typeface="Times New Roman"/>
                <a:ea typeface="Times New Roman"/>
              </a:rPr>
              <a:t>major</a:t>
            </a:r>
            <a:r>
              <a:rPr b="0" lang="en-US" sz="3200" spc="-1" strike="noStrike" u="sng">
                <a:solidFill>
                  <a:srgbClr val="000000"/>
                </a:solidFill>
                <a:uFillTx/>
                <a:latin typeface="Times New Roman"/>
                <a:ea typeface="Times New Roman"/>
              </a:rPr>
              <a:t>) и нижи,  споредни алергени (</a:t>
            </a:r>
            <a:r>
              <a:rPr b="0" i="1" lang="en-US" sz="3200" spc="-1" strike="noStrike" u="sng">
                <a:solidFill>
                  <a:srgbClr val="000000"/>
                </a:solidFill>
                <a:uFillTx/>
                <a:latin typeface="Times New Roman"/>
                <a:ea typeface="Times New Roman"/>
              </a:rPr>
              <a:t>minor</a:t>
            </a:r>
            <a:r>
              <a:rPr b="0" lang="en-US" sz="3200" spc="-1" strike="noStrike" u="sng">
                <a:solidFill>
                  <a:srgbClr val="000000"/>
                </a:solidFill>
                <a:uFillTx/>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крштена алергијска реакција на храну или делове намирница догађа се када антитела реагују не само са изворним алергеном већ и са сличним алергеном.</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Укрштена алергијска реакција на храну</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Укрштена алергијска реакција на храну или делове намирница је учестала на морске плодове и језграсто воће.</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Глобално, намирнице које су одговорне за већину IgE антителима посредованих алергија на храну јесу млеко, јаја, риба, љускари, кикирики, соја, језграсто воће и пшениц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14T16:08:21Z</dcterms:created>
  <dc:creator>Windows User</dc:creator>
  <dc:description/>
  <dc:language>en-US</dc:language>
  <cp:lastModifiedBy>Maja</cp:lastModifiedBy>
  <dcterms:modified xsi:type="dcterms:W3CDTF">2020-09-28T18:47:25Z</dcterms:modified>
  <cp:revision>150</cp:revision>
  <dc:subject/>
  <dc:title>Slide 1</dc:title>
</cp:coreProperties>
</file>